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DE86-0834-40B9-B64E-1D721286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0B3-5B14-41BE-82F7-364D18D7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BF5-3D12-4403-9156-E8BEF7DD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248-127A-41D1-B0C6-DCE2E993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663-D651-4CC8-A990-D92E4515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FA6-D5B3-4C4A-ADED-14AA23EB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FDC-F179-436B-9B2F-BB21FB8E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F56-FA19-4F08-AD03-49297D02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F25-FA20-4BA6-A6C7-6F6D9198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594-99FD-4D5A-9833-DFFEEF08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D3F-8401-4D3D-A00E-4144FA15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56B-7C6C-45FC-B4EB-CF84093F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D1D2-15F2-4229-B6AB-91DC04FEC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es.wikipedia.org/wiki/Jas&#243;n_y_los_argonautas" TargetMode="External"/><Relationship Id="rId4" Type="http://schemas.openxmlformats.org/officeDocument/2006/relationships/hyperlink" Target="http://es.wikipedia.org/wiki/Indiana_Jones_y_la_&#250;ltima_cruzada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youtube.com/watch?v=-On-1UsoFL4" TargetMode="External"/><Relationship Id="rId4" Type="http://schemas.openxmlformats.org/officeDocument/2006/relationships/hyperlink" Target="http://www.youtube.com/watch?v=g9cgwF2dZF4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13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te de Jasón y los Argonautas en Indiana Jones y la última cruzad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3357720"/>
            <a:ext cx="2743200" cy="2724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003640" y="3357720"/>
            <a:ext cx="2857680" cy="280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16000" y="2637000"/>
            <a:ext cx="2087640" cy="576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gumento (clic 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aquí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2637000"/>
            <a:ext cx="2232360" cy="647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gumento (clic 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aquí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ARGO PREV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JE ACCIDEN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EGADA AL DESTINO Y PRUEBAS QUE SUPE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YUDA INESPE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ÍDA ACCIDEN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ARGO PRE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Jasón es el Vellocino de 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Indiana Jones es el Santo G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2376720" cy="3095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2616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AJ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IDENTAD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són debe llegar a la Cólq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conseguir el encargo pre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ana debe llegar a Venecia para conseguir el encargo prev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3672000" cy="3497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19640" y="2708280"/>
            <a:ext cx="33940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EGADA AL DESTINO Y PRUEB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són debe superar una prueba impuesta por el rey Eetes para conseguir el Vellocino de O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ana debe superar diferentes pruebas para conseguir el Santo G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270504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76720" y="2852640"/>
            <a:ext cx="3267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YUDA INESPERA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són es ayudado por Medea a superar la prueb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ana es ayudado por Elsa , pero es una ayuda mala ya que ella le traici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2736720" cy="3384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148360" y="2708280"/>
            <a:ext cx="345744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IDA ACCIDENTA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són huye de la Cólquide con Medea y el Vellocino de Oro por lo que son perseguidos en su huida por los col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ana y su padre intentan huir de Berlín pero son perseguidos por los naz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3240000" cy="331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932360" y="2852640"/>
            <a:ext cx="331164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són y Medea llegan a Yol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ana pierde a su padre y a Elsa cuando ya han conseguido el g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2867040" cy="3809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3810240" cy="3333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165720"/>
            <a:ext cx="4105440" cy="6922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ídeo de Jasón y los Argonautas (clic 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aquí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6165720"/>
            <a:ext cx="4537080" cy="6922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ídeo de Indiana Jones y la Última cruzada (clic 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aquí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riam lengua ni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bachiller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utora del trabajo: Maria Te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Referents Clàss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1:12:08Z</dcterms:created>
  <dc:creator>MIRIAM</dc:creator>
  <dc:description/>
  <dc:language>en-US</dc:language>
  <cp:lastModifiedBy>MIRIAM</cp:lastModifiedBy>
  <dcterms:modified xsi:type="dcterms:W3CDTF">2010-01-11T19:06:50Z</dcterms:modified>
  <cp:revision>7</cp:revision>
  <dc:subject/>
  <dc:title>Referente de Jasón y los Argonautas en Indiana Jones y la última cruzada  </dc:title>
</cp:coreProperties>
</file>